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23A3-CEAE-4E38-B5F9-D3A123373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3ECF-AA2D-472A-925B-CA4339C87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5FD6-AE41-4F84-BF3C-B6C40E4A8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871704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06280" y="4159440"/>
            <a:ext cx="871704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BB91-EBC0-45B1-A4C0-5169BADF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160" y="158436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6280" y="415944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160" y="415944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AE32-9BD4-43AA-85EC-6DE8D35BB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28065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3600" y="1584360"/>
            <a:ext cx="28065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0920" y="1584360"/>
            <a:ext cx="28065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06280" y="4159440"/>
            <a:ext cx="28065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3600" y="4159440"/>
            <a:ext cx="28065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0920" y="4159440"/>
            <a:ext cx="28065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90FE-C63B-4150-BE94-B1759953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3A91-6A70-4331-BD92-04F183F20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06280" y="1584360"/>
            <a:ext cx="871704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3A8E-35D6-4B17-955A-02532E19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87170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1528-3B9E-47B8-80F1-D579E062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4253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160" y="1584360"/>
            <a:ext cx="4253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B7EB-D688-451A-93BE-497F16F3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F00B-F650-41E3-BD54-7FDC1DA2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09480" y="344160"/>
            <a:ext cx="734508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1311-8E43-4162-A82D-728B81A7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160" y="1584360"/>
            <a:ext cx="4253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06280" y="415944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7267-A433-4829-9055-CE659B98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06280" y="1584360"/>
            <a:ext cx="871704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29D9-3391-45BF-A626-05E8C3BA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4253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160" y="158436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160" y="415944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20B2-FB01-4EFF-9611-84EC041D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160" y="158436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06280" y="4159440"/>
            <a:ext cx="871704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1813-4160-4C7E-9A5B-A5AE70C8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871704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06280" y="4159440"/>
            <a:ext cx="871704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C478-D96D-4E89-8ABF-5AF18296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160" y="158436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06280" y="415944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160" y="415944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A16C-D3F4-4777-B69C-713CD67C7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28065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3600" y="1584360"/>
            <a:ext cx="28065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0920" y="1584360"/>
            <a:ext cx="28065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06280" y="4159440"/>
            <a:ext cx="28065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3600" y="4159440"/>
            <a:ext cx="28065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0920" y="4159440"/>
            <a:ext cx="28065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5AF8-87F4-4344-B4AE-5CB9755FE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87170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235B-902D-4C72-9AB0-4F05C090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4253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160" y="1584360"/>
            <a:ext cx="4253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74B5-C8AB-4732-9EAD-A6FBE170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4BD2-59E6-4D5E-97D1-8B651D0B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9480" y="344160"/>
            <a:ext cx="734508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4067-2A2C-43A6-BA4E-2DD3F9BD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160" y="1584360"/>
            <a:ext cx="4253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06280" y="415944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DE41-08D1-4B12-8437-77D28C91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4253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160" y="158436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160" y="415944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8A56-55D9-42FA-8EC6-79660A4E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160" y="158436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06280" y="4159440"/>
            <a:ext cx="871704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29D2-FAF9-48CE-9089-69DF991D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0" descr="\\Penfold\Clients2\CUSTOM_SERVICES\2004 Updates\April\static templates\Medical\PPP_SMEDI_TXT_Patient_Record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06280" y="1584360"/>
            <a:ext cx="87170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2" marL="1141560" indent="-22716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3" marL="1598760" indent="-22716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583320"/>
            <a:ext cx="1905120" cy="2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1A2C-DEFC-49BB-BF66-8A339470EB78}" type="datetime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83320"/>
            <a:ext cx="2895840" cy="2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K, GV, VJ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583320"/>
            <a:ext cx="1905120" cy="2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5F7F-5F11-44EA-8461-5F232137C43A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3" descr="\\Penfold\Clients2\CUSTOM_SERVICES\2004 Updates\April\static templates\Medical\PPP_SMEDI_TLE_Patient_Record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06280" y="1584360"/>
            <a:ext cx="87170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2" marL="1141560" indent="-22716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3" marL="1598760" indent="-22716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678720"/>
            <a:ext cx="1905120" cy="1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26AE-AD0C-45EC-A263-B5EB221DFAC7}" type="datetime">
              <a:rPr b="0" lang="en-US" sz="1100" spc="-1" strike="noStrike">
                <a:solidFill>
                  <a:srgbClr val="4d4d4d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78720"/>
            <a:ext cx="2895840" cy="1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d4d4d"/>
                </a:solidFill>
                <a:latin typeface="Times New Roman"/>
              </a:rPr>
              <a:t>SK, GV, VJ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678720"/>
            <a:ext cx="1905120" cy="1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C1A2-B9F5-4ECF-9A15-A19B20C04CA7}" type="slidenum">
              <a:rPr b="0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63840" y="2134800"/>
            <a:ext cx="542304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ftercare Support Sys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429000" y="2895120"/>
            <a:ext cx="5213520" cy="5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ign of ER of the Futur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na Khan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irish Venkatesh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jay Ramnath Jayaraman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Date Placeholder 3"/>
          <p:cNvSpPr/>
          <p:nvPr/>
        </p:nvSpPr>
        <p:spPr>
          <a:xfrm>
            <a:off x="685800" y="6678720"/>
            <a:ext cx="19051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5A5E-FB85-4BDA-9E7D-A6AC8653C4EC}" type="datetime">
              <a:rPr b="0" lang="en-US" sz="1100" spc="-1" strike="noStrike">
                <a:solidFill>
                  <a:srgbClr val="4d4d4d"/>
                </a:solidFill>
                <a:latin typeface="Aria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678720"/>
            <a:ext cx="19051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B67E-8E6F-4976-9325-5E7117D4FBDC}" type="slidenum">
              <a:rPr b="0" lang="en-US" sz="11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5"/>
          <p:cNvSpPr/>
          <p:nvPr/>
        </p:nvSpPr>
        <p:spPr>
          <a:xfrm>
            <a:off x="3124080" y="6678720"/>
            <a:ext cx="28958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SK, GV, VJ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363840" y="2134800"/>
            <a:ext cx="542304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500280" y="3235320"/>
            <a:ext cx="5213520" cy="52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Questions &amp; Suggestions??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" name="Date Placeholder 3"/>
          <p:cNvSpPr/>
          <p:nvPr/>
        </p:nvSpPr>
        <p:spPr>
          <a:xfrm>
            <a:off x="685800" y="6678720"/>
            <a:ext cx="19051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F3B2-06F2-46E5-B535-5D869230800C}" type="datetime">
              <a:rPr b="0" lang="en-US" sz="1100" spc="-1" strike="noStrike">
                <a:solidFill>
                  <a:srgbClr val="4d4d4d"/>
                </a:solidFill>
                <a:latin typeface="Aria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124080" y="6678720"/>
            <a:ext cx="28958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SK, GV, VJ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553080" y="6678720"/>
            <a:ext cx="19051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5FBA-80EA-4848-8A74-A6AA67FE98C0}" type="slidenum">
              <a:rPr b="0" lang="en-US" sz="11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 Stat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06280" y="1584360"/>
            <a:ext cx="87170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Patients leave the Hospital without comprehension of discharge diagnosis which commonly results in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Patients not adhering to medical advic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Ineffective follow-up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>
            <a:lum contrast="-2000"/>
          </a:blip>
          <a:stretch/>
        </p:blipFill>
        <p:spPr>
          <a:xfrm>
            <a:off x="2438280" y="3429000"/>
            <a:ext cx="3505320" cy="3029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/>
            </a:outerShdw>
          </a:effectLst>
        </p:spPr>
      </p:pic>
      <p:sp>
        <p:nvSpPr>
          <p:cNvPr id="99" name="Date Placeholder 5"/>
          <p:cNvSpPr/>
          <p:nvPr/>
        </p:nvSpPr>
        <p:spPr>
          <a:xfrm>
            <a:off x="685800" y="6583320"/>
            <a:ext cx="1905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ACF2-378E-411B-87E5-E0A28A6A74A5}" type="datetime">
              <a:rPr b="0" lang="en-US" sz="9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6553080" y="6583320"/>
            <a:ext cx="1905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BDC3-410E-4E6F-9D79-A751ABFBFCB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7"/>
          <p:cNvSpPr/>
          <p:nvPr/>
        </p:nvSpPr>
        <p:spPr>
          <a:xfrm>
            <a:off x="3124080" y="65833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K, GV, V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Product Id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05920" y="1584360"/>
            <a:ext cx="42894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33560" y="1584360"/>
            <a:ext cx="42894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Interactive Discharge table/kiosk (like a Microsoft Surfac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4440" indent="-33444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esigned to address all the core issues with discharge in addition to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Patients provided with info about his/her health (audio/visual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Given the follow-up options (mobile phone/email aler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Providers can add-on notes, have the normal functionality of an EM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4440" indent="-33444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Adjustable for all the patients with different acuity level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4440" indent="-334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4d4d"/>
              </a:solidFill>
              <a:latin typeface="Arial"/>
            </a:endParaRPr>
          </a:p>
          <a:p>
            <a:pPr marL="334440" indent="-334440">
              <a:spcBef>
                <a:spcPts val="624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4d4d"/>
              </a:solidFill>
              <a:latin typeface="Arial"/>
            </a:endParaRPr>
          </a:p>
          <a:p>
            <a:pPr marL="334440" indent="-334440">
              <a:spcBef>
                <a:spcPts val="624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014720" cy="5029200"/>
          </a:xfrm>
          <a:prstGeom prst="rect">
            <a:avLst/>
          </a:prstGeom>
          <a:ln w="0">
            <a:noFill/>
          </a:ln>
        </p:spPr>
      </p:pic>
      <p:sp>
        <p:nvSpPr>
          <p:cNvPr id="106" name="Date Placeholder 6"/>
          <p:cNvSpPr/>
          <p:nvPr/>
        </p:nvSpPr>
        <p:spPr>
          <a:xfrm>
            <a:off x="685800" y="6583320"/>
            <a:ext cx="1905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6754-2138-4A79-A020-B55AF96D3333}" type="datetime">
              <a:rPr b="0" lang="en-US" sz="9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7"/>
          <p:cNvSpPr/>
          <p:nvPr/>
        </p:nvSpPr>
        <p:spPr>
          <a:xfrm>
            <a:off x="6553080" y="6583320"/>
            <a:ext cx="1905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E5F3-5881-421A-8EB3-94C9C50839D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8"/>
          <p:cNvSpPr/>
          <p:nvPr/>
        </p:nvSpPr>
        <p:spPr>
          <a:xfrm>
            <a:off x="3124080" y="65833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K, GV, V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t Hardware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28240" y="1523880"/>
            <a:ext cx="4343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6640" indent="-296640">
              <a:spcBef>
                <a:spcPts val="4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Best/Expensive option – Buy a Microsoft surface computer and worry only about the Software Design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Pros: multi-touch process (doctor/patient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Cons: no flexible desig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96640" indent="-296640">
              <a:spcBef>
                <a:spcPts val="4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Viable Solution – Simulate a Surface computer(computer projector  + touch screen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Pros: Cheap, can build a flexible desig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Cons: No multi-touch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Hardware/Software support for mobile alerts (text, audio &amp; visual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Wheels, adjustable (height and angle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Audio/Video recording/suppor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Internet connectivity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4870440" y="2279520"/>
            <a:ext cx="1768320" cy="1474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6931080" y="1596960"/>
            <a:ext cx="1914480" cy="1511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3"/>
          <a:stretch/>
        </p:blipFill>
        <p:spPr>
          <a:xfrm>
            <a:off x="7388280" y="3346560"/>
            <a:ext cx="1407960" cy="1761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4"/>
          <a:stretch/>
        </p:blipFill>
        <p:spPr>
          <a:xfrm>
            <a:off x="4870440" y="3956040"/>
            <a:ext cx="2043000" cy="1762200"/>
          </a:xfrm>
          <a:prstGeom prst="rect">
            <a:avLst/>
          </a:prstGeom>
          <a:ln w="0">
            <a:noFill/>
          </a:ln>
        </p:spPr>
      </p:pic>
      <p:sp>
        <p:nvSpPr>
          <p:cNvPr id="115" name="Date Placeholder 16"/>
          <p:cNvSpPr/>
          <p:nvPr/>
        </p:nvSpPr>
        <p:spPr>
          <a:xfrm>
            <a:off x="685800" y="6583320"/>
            <a:ext cx="1905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2440-2935-4F43-8446-48C19B4D6F71}" type="datetime">
              <a:rPr b="0" lang="en-US" sz="9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17"/>
          <p:cNvSpPr/>
          <p:nvPr/>
        </p:nvSpPr>
        <p:spPr>
          <a:xfrm>
            <a:off x="6553080" y="6583320"/>
            <a:ext cx="1905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8298-4359-46E7-B566-546CBDDDA3E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18"/>
          <p:cNvSpPr/>
          <p:nvPr/>
        </p:nvSpPr>
        <p:spPr>
          <a:xfrm>
            <a:off x="3124080" y="65833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K, GV, V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5"/>
          <a:stretch/>
        </p:blipFill>
        <p:spPr>
          <a:xfrm>
            <a:off x="7083360" y="5254560"/>
            <a:ext cx="160992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face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5867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atures &amp; Wo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28600" y="1600200"/>
            <a:ext cx="87170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Table top has doctor and patient logins.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Main difference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Patient login disallows access to records of other patients.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Table top main menu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Pati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ER Car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Post ER Car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Alert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80880" y="1523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Login screen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Login type(doctor/patient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Usernam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Password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Patient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Doctor login, is able to search for patient using patient last name and ID(TBD). 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Patient login, can only view his/her medical details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ER Car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Previous ER discharge history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CT’s &amp; X-rays from earlier visit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Current discharge for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Link to anatomy atla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Post ER Car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Earlier prescription schedul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Dietary restrictions 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Follow-up information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Alert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Enabling/Disabling medicine reminder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Enabling /Disabling follow-up reminder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(Clicking a discharge form, follow-up information, anatomy or CT images opens them in a new window on top of the main window.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face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87170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Tying it down to our problem statem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Anatomy Atla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Alert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Design Decision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Hardwar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2" marL="1141560" indent="-22716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Table on wheel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2" marL="1141560" indent="-22716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tylu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Interface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2" marL="1141560" indent="-22716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Interaction styl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2" marL="1141560" indent="-22716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Acces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Ease of use and Deploym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Building on top of existing practic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2" marL="11415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nex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87170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Visit to Emory ER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Witness the actual discharge procedur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Documentation of discharge instruction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Micro level designs and featur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Implement and Test iterativel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685800" y="6583320"/>
            <a:ext cx="1905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7116-4560-48A2-A026-37E3A34BFC13}" type="datetime">
              <a:rPr b="0" lang="en-US" sz="9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3124080" y="65833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K, GV, V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553080" y="6583320"/>
            <a:ext cx="1905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22FD-F507-4C09-A736-F1C8EF15DEF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8:54:34Z</dcterms:created>
  <dc:creator>Georgia Institute of Technology - OIT - ITS</dc:creator>
  <dc:description/>
  <cp:keywords/>
  <dc:language>en-US</dc:language>
  <cp:lastModifiedBy>Girish</cp:lastModifiedBy>
  <dcterms:modified xsi:type="dcterms:W3CDTF">2008-10-28T19:31:40Z</dcterms:modified>
  <cp:revision>41</cp:revision>
  <dc:subject/>
  <dc:title>Aftercare Support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62141033</vt:lpwstr>
  </property>
</Properties>
</file>